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clap.wav" ContentType="audio/x-wav"/>
  <Override PartName="/ppt/media/image18.jpeg" ContentType="image/jpeg"/>
  <Override PartName="/ppt/media/image15.png" ContentType="image/png"/>
  <Override PartName="/ppt/media/image17.png" ContentType="image/png"/>
  <Override PartName="/ppt/media/image10.png" ContentType="image/png"/>
  <Override PartName="/ppt/media/image20.png" ContentType="image/png"/>
  <Override PartName="/ppt/media/image7.jpeg" ContentType="image/jpeg"/>
  <Override PartName="/ppt/media/image28.jpeg" ContentType="image/jpeg"/>
  <Override PartName="/ppt/media/image11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laser.wav" ContentType="audio/x-wav"/>
  <Override PartName="/ppt/media/image34.png" ContentType="image/png"/>
  <Override PartName="/ppt/media/image4.png" ContentType="image/png"/>
  <Override PartName="/ppt/media/image30.jpeg" ContentType="image/jpeg"/>
  <Override PartName="/ppt/media/drumroll.wav" ContentType="audio/x-wav"/>
  <Override PartName="/ppt/media/image36.png" ContentType="image/png"/>
  <Override PartName="/ppt/media/image35.png" ContentType="image/png"/>
  <Override PartName="/ppt/media/image5.png" ContentType="image/png"/>
  <Override PartName="/ppt/media/image3.gif" ContentType="image/gif"/>
  <Override PartName="/ppt/media/image26.gif" ContentType="image/gif"/>
  <Override PartName="/ppt/media/chimes.wav" ContentType="audio/x-wav"/>
  <Override PartName="/ppt/media/image6.gif" ContentType="image/gif"/>
  <Override PartName="/ppt/media/image29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706-3D81-459C-9131-2C2EE76C2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CF96-3449-43A0-BF11-15AFDDC9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4C2-1B5C-4488-B835-C742FA0A0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27B6-04A1-4BD2-A029-6211013E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7892-5A19-4181-9D33-B084E37A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0290-9BCC-4BF5-9E9C-70962986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276D-D702-48D0-B940-4D59EE93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2F29-8981-4253-88DB-D3C1C70D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673C-6BA8-4CD6-B327-6B1C32DA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B815-5C75-42CA-9C8B-822699C9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E85F-C75A-4F04-AE5F-B53C9EE3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4DB6-8849-4F25-AC2B-177C33D4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549F-9565-4FD7-BD28-B4B07E46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B64D-3B4E-4246-A33A-3FE55FCF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A8D6-8978-4285-9B72-43834525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693F-381A-40E2-8A4F-BFF07463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2D8B-53FA-424F-8E23-D23FB91C7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9BE1-FB6D-48FE-8007-9BE4F3B0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096B-6769-45BE-856F-6645973D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A49-2533-4F6F-AEEA-098C8811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A51-3415-4E5F-9889-F42CAC3E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735-8E75-464C-82A4-7C725E65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BAF9-1431-4FF7-8F22-F800FA7B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FBE-D6B9-4CCE-9F4D-40435482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94CB-8FC0-40A9-A6FD-BA8CF2167465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8017-A42B-4FB7-B512-19B50031B4B5}" type="slidenum">
              <a:rPr b="0" lang="ru-RU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lap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lap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6.gif"/><Relationship Id="rId3" Type="http://schemas.openxmlformats.org/officeDocument/2006/relationships/audio" Target="../media/clap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08636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0516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42920" y="1844640"/>
            <a:ext cx="705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660066"/>
                </a:solidFill>
                <a:latin typeface="Tahoma"/>
              </a:rPr>
              <a:t>Процессор</a:t>
            </a:r>
            <a:br>
              <a:rPr sz="8800"/>
            </a:br>
            <a:endParaRPr b="0" lang="en-US" sz="8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76720" y="4508640"/>
            <a:ext cx="2101680" cy="210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актовая частота –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55640" y="16282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количество тактов в секунду (</a:t>
            </a:r>
            <a:r>
              <a:rPr b="0" i="1" lang="ru-RU" sz="2800" spc="-1" strike="noStrike">
                <a:solidFill>
                  <a:srgbClr val="40458c"/>
                </a:solidFill>
                <a:latin typeface="Tahoma"/>
              </a:rPr>
              <a:t>Такт 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– чрезвычайно малый промежуток времени, измеряемый микросекундами, в течении которого может быть выполнена элементарная операция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e0e14"/>
                </a:solidFill>
                <a:latin typeface="Arial Black"/>
              </a:rPr>
              <a:t>Единица  измерения тактовой частоты – </a:t>
            </a:r>
            <a:br>
              <a:rPr sz="2400"/>
            </a:br>
            <a:r>
              <a:rPr b="0" lang="ru-RU" sz="2400" spc="-1" strike="noStrike">
                <a:solidFill>
                  <a:srgbClr val="0e0e14"/>
                </a:solidFill>
                <a:latin typeface="Arial Black"/>
              </a:rPr>
              <a:t>Гц (герц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Arial Black"/>
              </a:rPr>
              <a:t>Для современных компьютеров тактовая частота измеряется от сотен мегагерц (1 МГц=1000 Гц) до нескольких гигагерц ( 1ГГц=1000 МГц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7" name="Picture 4" descr="157"/>
          <p:cNvPicPr/>
          <p:nvPr/>
        </p:nvPicPr>
        <p:blipFill>
          <a:blip r:embed="rId1"/>
          <a:stretch/>
        </p:blipFill>
        <p:spPr>
          <a:xfrm>
            <a:off x="971640" y="404640"/>
            <a:ext cx="495360" cy="99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Разрядность –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11280" y="14130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размер минимальной порции информации, обрабатываемой процессором за один такт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0020e"/>
                </a:solidFill>
                <a:latin typeface="Tahoma"/>
              </a:rPr>
              <a:t>Эта порция информации, часто называемая </a:t>
            </a:r>
            <a:r>
              <a:rPr b="0" lang="ru-RU" sz="2800" spc="-1" strike="noStrike">
                <a:solidFill>
                  <a:srgbClr val="20020e"/>
                </a:solidFill>
                <a:latin typeface="Tahoma"/>
              </a:rPr>
              <a:t>машинным словом, </a:t>
            </a:r>
            <a:r>
              <a:rPr b="0" lang="ru-RU" sz="2800" spc="-1" strike="noStrike">
                <a:solidFill>
                  <a:srgbClr val="20020e"/>
                </a:solidFill>
                <a:latin typeface="Tahoma"/>
              </a:rPr>
              <a:t>представлена последовательностью двоичных разрядов (бит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оцессор в зависимости от его типа может иметь одновременный доступ к 8, 16, 32, 64 бита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0" name="Picture 4" descr="157"/>
          <p:cNvPicPr/>
          <p:nvPr/>
        </p:nvPicPr>
        <p:blipFill>
          <a:blip r:embed="rId1"/>
          <a:stretch/>
        </p:blipFill>
        <p:spPr>
          <a:xfrm>
            <a:off x="1476360" y="333360"/>
            <a:ext cx="495360" cy="99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КОМПЬЮТЕРНЫЙ ПРАКТИКУ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79280" y="692280"/>
            <a:ext cx="6193080" cy="398880"/>
          </a:xfrm>
          <a:prstGeom prst="rect">
            <a:avLst/>
          </a:prstGeom>
          <a:solidFill>
            <a:srgbClr val="fc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Arial"/>
              </a:rPr>
              <a:t>1. Определение объемов кэш-памяти процессор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710240" cy="52563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50920" y="1773360"/>
            <a:ext cx="1871640" cy="50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2421000"/>
            <a:ext cx="1871640" cy="50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3141720"/>
            <a:ext cx="1871640" cy="50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40360" y="177336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эш-память данных 1-го уровня –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16 Кбай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40360" y="242100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эш-память команд 1-го уровня –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12 Кбай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76720" y="314172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эш-память 2-го уровня –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1024 Кбай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268360" y="1916280"/>
            <a:ext cx="273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2268360" y="2565360"/>
            <a:ext cx="273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268360" y="3284640"/>
            <a:ext cx="2735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95280" y="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КОМПЬЮТЕРНЫЙ ПРАКТИКУ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9280" y="692280"/>
            <a:ext cx="6193080" cy="368280"/>
          </a:xfrm>
          <a:prstGeom prst="rect">
            <a:avLst/>
          </a:prstGeom>
          <a:solidFill>
            <a:srgbClr val="fc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2. Определение температуры процессор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80000" y="2924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Температура процессора –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46 </a:t>
            </a:r>
            <a:r>
              <a:rPr b="1" lang="en-US" sz="1800" spc="-1" strike="noStrike">
                <a:solidFill>
                  <a:srgbClr val="40458c"/>
                </a:solidFill>
                <a:latin typeface="Arial"/>
                <a:ea typeface="Arial"/>
              </a:rPr>
              <a:t>°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80000" y="1484280"/>
            <a:ext cx="32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оличество оборотов в минуту кулера процессора –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2884 об/мин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4824360" cy="3638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 flipH="1" flipV="1">
            <a:off x="3492000" y="3141720"/>
            <a:ext cx="208764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00000" y="2997360"/>
            <a:ext cx="433440" cy="431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708000" y="2133720"/>
            <a:ext cx="1800360" cy="863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95280" y="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КОМПЬЮТЕРНЫЙ ПРАКТИКУ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9280" y="692280"/>
            <a:ext cx="6193080" cy="368280"/>
          </a:xfrm>
          <a:prstGeom prst="rect">
            <a:avLst/>
          </a:prstGeom>
          <a:solidFill>
            <a:srgbClr val="fc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3. Производительность процессор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972320" cy="16765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250920" y="1989000"/>
            <a:ext cx="1728720" cy="576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2987640" y="1700280"/>
            <a:ext cx="5762520" cy="48196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651640" y="6021360"/>
            <a:ext cx="433080" cy="576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59280" y="3068640"/>
            <a:ext cx="2160360" cy="165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95280" y="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КОМПЬЮТЕРНЫЙ ПРАКТИКУМ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9280" y="692280"/>
            <a:ext cx="6193080" cy="368280"/>
          </a:xfrm>
          <a:prstGeom prst="rect">
            <a:avLst/>
          </a:prstGeom>
          <a:solidFill>
            <a:srgbClr val="fc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3. Производительность процессор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6553080" cy="44956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flipH="1">
            <a:off x="6372000" y="1916280"/>
            <a:ext cx="1439640" cy="324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67280" y="1268280"/>
            <a:ext cx="46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40458c"/>
                </a:solidFill>
                <a:latin typeface="Arial"/>
              </a:rPr>
              <a:t>Количество целочисленных операций:  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Arial"/>
              </a:rPr>
              <a:t>6565 MIPS</a:t>
            </a:r>
            <a:r>
              <a:rPr b="1" lang="ru-RU" sz="1800" spc="-1" strike="noStrike">
                <a:solidFill>
                  <a:srgbClr val="40458c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cd882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ерминологический словарь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0311c"/>
                </a:solidFill>
                <a:latin typeface="Tahoma"/>
              </a:rPr>
              <a:t>Процессор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– устройство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редназначенное для обработки информации и управления работой компьютер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0311c"/>
                </a:solidFill>
                <a:latin typeface="Tahoma"/>
              </a:rPr>
              <a:t>Производительность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- количество элементарных операций, выполняемых за одну секунду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0311c"/>
                </a:solidFill>
                <a:latin typeface="Tahoma"/>
              </a:rPr>
              <a:t>Тактовая чистота -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количество тактов в секунду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0311c"/>
                </a:solidFill>
                <a:latin typeface="Tahoma"/>
              </a:rPr>
              <a:t>Такт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– малый промежуток времени, в течении которого выполняется элементарная операция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b0311c"/>
                </a:solidFill>
                <a:latin typeface="Tahoma"/>
              </a:rPr>
              <a:t>Разрядность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- размер минимальной порции информации, обрабатываемой процессором за один такт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5" name="Picture 4" descr="157"/>
          <p:cNvPicPr/>
          <p:nvPr/>
        </p:nvPicPr>
        <p:blipFill>
          <a:blip r:embed="rId6"/>
          <a:stretch/>
        </p:blipFill>
        <p:spPr>
          <a:xfrm>
            <a:off x="468360" y="333360"/>
            <a:ext cx="495360" cy="99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696080" cy="29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Процессор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 – устройство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предназначенное для обработки информации и управления работой компьютера</a:t>
            </a:r>
            <a:br>
              <a:rPr sz="3600"/>
            </a:b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 («МОЗГ» компьютера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26920" y="4005360"/>
            <a:ext cx="3024360" cy="2351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643280" y="4221000"/>
            <a:ext cx="3411720" cy="2251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157"/>
          <p:cNvPicPr/>
          <p:nvPr/>
        </p:nvPicPr>
        <p:blipFill>
          <a:blip r:embed="rId3"/>
          <a:stretch/>
        </p:blipFill>
        <p:spPr>
          <a:xfrm>
            <a:off x="1116000" y="476280"/>
            <a:ext cx="495360" cy="99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0000"/>
                </a:solidFill>
                <a:uFillTx/>
                <a:latin typeface="Tahoma"/>
              </a:rPr>
              <a:t>Ведущие фирмы по производству процессоров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: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4360" y="2565360"/>
          <a:ext cx="7772400" cy="16002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711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Intel</a:t>
                      </a:r>
                      <a:endParaRPr b="0" lang="en-US" sz="3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MD</a:t>
                      </a:r>
                      <a:endParaRPr b="0" lang="en-US" sz="3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fdb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Pentium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С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ore 2 DUO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Celeron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Athlon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fdb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uron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solidFill>
                      <a:srgbClr val="cfdbfd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29"/>
          <p:cNvGrpSpPr/>
          <p:nvPr/>
        </p:nvGrpSpPr>
        <p:grpSpPr>
          <a:xfrm>
            <a:off x="5435640" y="1268280"/>
            <a:ext cx="3368160" cy="1439640"/>
            <a:chOff x="5435640" y="1268280"/>
            <a:chExt cx="3368160" cy="1439640"/>
          </a:xfrm>
        </p:grpSpPr>
        <p:pic>
          <p:nvPicPr>
            <p:cNvPr id="219" name="Picture 9" descr=""/>
            <p:cNvPicPr/>
            <p:nvPr/>
          </p:nvPicPr>
          <p:blipFill>
            <a:blip r:embed="rId1"/>
            <a:stretch/>
          </p:blipFill>
          <p:spPr>
            <a:xfrm>
              <a:off x="5435640" y="1276200"/>
              <a:ext cx="1523880" cy="14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10" descr=""/>
            <p:cNvPicPr/>
            <p:nvPr/>
          </p:nvPicPr>
          <p:blipFill>
            <a:blip r:embed="rId2"/>
            <a:stretch/>
          </p:blipFill>
          <p:spPr>
            <a:xfrm>
              <a:off x="7235640" y="1268280"/>
              <a:ext cx="1568160" cy="1439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1" name="Picture 14" descr=""/>
          <p:cNvPicPr/>
          <p:nvPr/>
        </p:nvPicPr>
        <p:blipFill>
          <a:blip r:embed="rId3"/>
          <a:stretch/>
        </p:blipFill>
        <p:spPr>
          <a:xfrm>
            <a:off x="1042920" y="4941720"/>
            <a:ext cx="1968480" cy="1546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4" descr=""/>
          <p:cNvPicPr/>
          <p:nvPr/>
        </p:nvPicPr>
        <p:blipFill>
          <a:blip r:embed="rId4"/>
          <a:stretch/>
        </p:blipFill>
        <p:spPr>
          <a:xfrm rot="21352800">
            <a:off x="5219640" y="2924280"/>
            <a:ext cx="1800360" cy="1671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5" descr=""/>
          <p:cNvPicPr/>
          <p:nvPr/>
        </p:nvPicPr>
        <p:blipFill>
          <a:blip r:embed="rId5"/>
          <a:stretch/>
        </p:blipFill>
        <p:spPr>
          <a:xfrm rot="21307200">
            <a:off x="2195280" y="2997000"/>
            <a:ext cx="1944720" cy="167292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30"/>
          <p:cNvGrpSpPr/>
          <p:nvPr/>
        </p:nvGrpSpPr>
        <p:grpSpPr>
          <a:xfrm>
            <a:off x="755640" y="1268280"/>
            <a:ext cx="4176000" cy="1439640"/>
            <a:chOff x="755640" y="1268280"/>
            <a:chExt cx="4176000" cy="1439640"/>
          </a:xfrm>
        </p:grpSpPr>
        <p:pic>
          <p:nvPicPr>
            <p:cNvPr id="225" name="Picture 26" descr=""/>
            <p:cNvPicPr/>
            <p:nvPr/>
          </p:nvPicPr>
          <p:blipFill>
            <a:blip r:embed="rId6"/>
            <a:stretch/>
          </p:blipFill>
          <p:spPr>
            <a:xfrm>
              <a:off x="3660840" y="1268280"/>
              <a:ext cx="1270800" cy="143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27" descr=""/>
            <p:cNvPicPr/>
            <p:nvPr/>
          </p:nvPicPr>
          <p:blipFill>
            <a:blip r:embed="rId7"/>
            <a:stretch/>
          </p:blipFill>
          <p:spPr>
            <a:xfrm>
              <a:off x="755640" y="1289160"/>
              <a:ext cx="2670840" cy="141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7" name="Picture 13" descr=""/>
          <p:cNvPicPr/>
          <p:nvPr/>
        </p:nvPicPr>
        <p:blipFill>
          <a:blip r:embed="rId8"/>
          <a:stretch/>
        </p:blipFill>
        <p:spPr>
          <a:xfrm rot="265800">
            <a:off x="5867280" y="4723920"/>
            <a:ext cx="2076480" cy="190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Object 14"/>
          <p:cNvGraphicFramePr/>
          <p:nvPr/>
        </p:nvGraphicFramePr>
        <p:xfrm>
          <a:off x="7605720" y="149400"/>
          <a:ext cx="1035000" cy="698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05720" y="149400"/>
                    <a:ext cx="103500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16"/>
          <p:cNvSpPr/>
          <p:nvPr/>
        </p:nvSpPr>
        <p:spPr>
          <a:xfrm>
            <a:off x="434880" y="14112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цессоры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Int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9" descr=""/>
          <p:cNvPicPr/>
          <p:nvPr/>
        </p:nvPicPr>
        <p:blipFill>
          <a:blip r:embed="rId1"/>
          <a:stretch/>
        </p:blipFill>
        <p:spPr>
          <a:xfrm>
            <a:off x="3348000" y="4437000"/>
            <a:ext cx="2435400" cy="183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5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2376720" cy="1412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6" descr=""/>
          <p:cNvPicPr/>
          <p:nvPr/>
        </p:nvPicPr>
        <p:blipFill>
          <a:blip r:embed="rId3"/>
          <a:stretch/>
        </p:blipFill>
        <p:spPr>
          <a:xfrm>
            <a:off x="3635280" y="2924280"/>
            <a:ext cx="2808360" cy="1295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7" descr=""/>
          <p:cNvPicPr/>
          <p:nvPr/>
        </p:nvPicPr>
        <p:blipFill>
          <a:blip r:embed="rId4"/>
          <a:stretch/>
        </p:blipFill>
        <p:spPr>
          <a:xfrm>
            <a:off x="7093080" y="2708280"/>
            <a:ext cx="1585800" cy="1495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8" descr=""/>
          <p:cNvPicPr/>
          <p:nvPr/>
        </p:nvPicPr>
        <p:blipFill>
          <a:blip r:embed="rId5"/>
          <a:stretch/>
        </p:blipFill>
        <p:spPr>
          <a:xfrm>
            <a:off x="6012000" y="1125360"/>
            <a:ext cx="1411200" cy="1411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"/>
          <p:cNvPicPr/>
          <p:nvPr/>
        </p:nvPicPr>
        <p:blipFill>
          <a:blip r:embed="rId6"/>
          <a:stretch/>
        </p:blipFill>
        <p:spPr>
          <a:xfrm>
            <a:off x="7273800" y="360360"/>
            <a:ext cx="1381320" cy="3430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6" descr=""/>
          <p:cNvPicPr/>
          <p:nvPr/>
        </p:nvPicPr>
        <p:blipFill>
          <a:blip r:embed="rId7"/>
          <a:stretch/>
        </p:blipFill>
        <p:spPr>
          <a:xfrm>
            <a:off x="1403280" y="105264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7" descr=""/>
          <p:cNvPicPr/>
          <p:nvPr/>
        </p:nvPicPr>
        <p:blipFill>
          <a:blip r:embed="rId8"/>
          <a:stretch/>
        </p:blipFill>
        <p:spPr>
          <a:xfrm>
            <a:off x="3851280" y="1125360"/>
            <a:ext cx="1430280" cy="1440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8" descr=""/>
          <p:cNvPicPr/>
          <p:nvPr/>
        </p:nvPicPr>
        <p:blipFill>
          <a:blip r:embed="rId9"/>
          <a:stretch/>
        </p:blipFill>
        <p:spPr>
          <a:xfrm>
            <a:off x="611280" y="4653000"/>
            <a:ext cx="2232000" cy="1514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0" descr=""/>
          <p:cNvPicPr/>
          <p:nvPr/>
        </p:nvPicPr>
        <p:blipFill>
          <a:blip r:embed="rId10"/>
          <a:stretch/>
        </p:blipFill>
        <p:spPr>
          <a:xfrm rot="258000">
            <a:off x="6012000" y="5013000"/>
            <a:ext cx="2232000" cy="14889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16"/>
          <p:cNvSpPr/>
          <p:nvPr/>
        </p:nvSpPr>
        <p:spPr>
          <a:xfrm>
            <a:off x="434880" y="14112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цессоры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M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Характеристики процессор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635280" y="2924280"/>
            <a:ext cx="2097360" cy="253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3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Технические характеристики процессор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042920" y="2133720"/>
          <a:ext cx="7199280" cy="215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133720"/>
                    <a:ext cx="7199280" cy="21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роизводительность –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количество элементарных операций, выполняемых за одну секунду.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роизводительность определяет быстродействие компьютера в целом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564000" y="5149800"/>
            <a:ext cx="1871640" cy="1708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157"/>
          <p:cNvPicPr/>
          <p:nvPr/>
        </p:nvPicPr>
        <p:blipFill>
          <a:blip r:embed="rId2"/>
          <a:stretch/>
        </p:blipFill>
        <p:spPr>
          <a:xfrm>
            <a:off x="826920" y="476280"/>
            <a:ext cx="495360" cy="990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95280" y="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ПРОИЗВОДИТЕЛЬНОСТЬ ПРОЦЕССОРА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376720" cy="21682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156360" y="620640"/>
            <a:ext cx="2844720" cy="5905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6156360" y="620640"/>
            <a:ext cx="280836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56360" y="3573360"/>
            <a:ext cx="2808360" cy="295272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27640" y="692280"/>
            <a:ext cx="792360" cy="936360"/>
          </a:xfrm>
          <a:prstGeom prst="rect">
            <a:avLst/>
          </a:prstGeom>
          <a:noFill/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27640" y="2205000"/>
            <a:ext cx="792360" cy="936720"/>
          </a:xfrm>
          <a:prstGeom prst="rect">
            <a:avLst/>
          </a:prstGeom>
          <a:noFill/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27640" y="5157720"/>
            <a:ext cx="792360" cy="936720"/>
          </a:xfrm>
          <a:prstGeom prst="rect">
            <a:avLst/>
          </a:prstGeom>
          <a:noFill/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27640" y="3716280"/>
            <a:ext cx="792360" cy="936720"/>
          </a:xfrm>
          <a:prstGeom prst="rect">
            <a:avLst/>
          </a:prstGeom>
          <a:noFill/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50920" y="3357720"/>
            <a:ext cx="4537080" cy="29080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771640" y="692280"/>
            <a:ext cx="3240360" cy="4485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40458c"/>
                </a:solidFill>
                <a:latin typeface="Arial"/>
              </a:rPr>
              <a:t>В настоящее время производительность процессора увеличивается путем совершенствования</a:t>
            </a:r>
            <a:r>
              <a:rPr b="1" lang="ru-RU" sz="1600" spc="-1" strike="noStrike">
                <a:solidFill>
                  <a:srgbClr val="40458c"/>
                </a:solidFill>
                <a:latin typeface="Arial"/>
              </a:rPr>
              <a:t> архитектуры</a:t>
            </a:r>
            <a:r>
              <a:rPr b="0" lang="ru-RU" sz="1600" spc="-1" strike="noStrike">
                <a:solidFill>
                  <a:srgbClr val="40458c"/>
                </a:solidFill>
                <a:latin typeface="Arial"/>
              </a:rPr>
              <a:t> процессора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40458c"/>
                </a:solidFill>
                <a:latin typeface="Arial"/>
              </a:rPr>
              <a:t>Во-первых, в структуру процессора вводится </a:t>
            </a:r>
            <a:r>
              <a:rPr b="1" lang="ru-RU" sz="1600" spc="-1" strike="noStrike">
                <a:solidFill>
                  <a:srgbClr val="40458c"/>
                </a:solidFill>
                <a:latin typeface="Arial"/>
              </a:rPr>
              <a:t>кэш-память</a:t>
            </a:r>
            <a:r>
              <a:rPr b="0" lang="ru-RU" sz="1600" spc="-1" strike="noStrike">
                <a:solidFill>
                  <a:srgbClr val="40458c"/>
                </a:solidFill>
                <a:latin typeface="Arial"/>
              </a:rPr>
              <a:t> 1-го и 2-го уровней, которая позволяет ускорить выборку команд и данных и тем самым уменьшить время выполнения одной команды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40458c"/>
                </a:solidFill>
                <a:latin typeface="Arial"/>
              </a:rPr>
              <a:t>Во-вторых, вместо одного ядра процессора используется </a:t>
            </a:r>
            <a:r>
              <a:rPr b="1" lang="ru-RU" sz="1600" spc="-1" strike="noStrike">
                <a:solidFill>
                  <a:srgbClr val="40458c"/>
                </a:solidFill>
                <a:latin typeface="Arial"/>
              </a:rPr>
              <a:t>два ядра</a:t>
            </a:r>
            <a:r>
              <a:rPr b="0" lang="ru-RU" sz="1600" spc="-1" strike="noStrike">
                <a:solidFill>
                  <a:srgbClr val="40458c"/>
                </a:solidFill>
                <a:latin typeface="Arial"/>
              </a:rPr>
              <a:t>, что позволяет повысить производительность процессора примерно на 80%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3860640"/>
            <a:ext cx="1871640" cy="505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4581360"/>
            <a:ext cx="1871640" cy="505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5300640"/>
            <a:ext cx="1871640" cy="50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4T16:21:44Z</dcterms:modified>
  <cp:revision>26</cp:revision>
  <dc:subject/>
  <dc:title>PowerPoint Presentation</dc:title>
</cp:coreProperties>
</file>